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CAF-A683-46AD-8B0C-4D7EFBBD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71D-2D22-45F4-B37F-3C7851B0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C7F-3D16-419C-8485-040BEC70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335-2477-41F6-8671-312B0E21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23C0-8350-438D-AD92-1B7F275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BA6-B168-433E-9A3B-5B1D876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FAC-1D1B-445D-9F94-D311BC39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59C-A088-4506-8C12-CBFAD5C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E86A-B2BA-4600-99C3-5F1E396E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DF8-23C9-4D63-B010-32C672C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6B6-BB91-4D4B-9D9A-D1553EC1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C10-A7E0-4E18-A9F1-873C7E3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B32-8511-42B4-90B7-596D8175C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.cn.yahoo.com/searchdtl_v3.html?p=%B5%E7&#1264;&#1338;&amp;b=4&amp;sf=&amp;sel=7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844640"/>
            <a:ext cx="56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9999"/>
                  </a:solidFill>
                  <a:round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Unit 4</a:t>
            </a:r>
            <a:endParaRPr b="1" lang="en-US" sz="4800" spc="1" strike="noStrike">
              <a:ln w="9360">
                <a:solidFill>
                  <a:srgbClr val="009999"/>
                </a:solidFill>
                <a:round/>
              </a:ln>
              <a:solidFill>
                <a:srgbClr val="0033cc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3080" y="4363920"/>
            <a:ext cx="903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What's the best movie theater?</a:t>
            </a:r>
            <a:endParaRPr b="1" lang="en-US" sz="4800" spc="1" strike="noStrike">
              <a:ln w="9360">
                <a:solidFill>
                  <a:srgbClr val="ffcc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35383974"/>
          <p:cNvPicPr/>
          <p:nvPr/>
        </p:nvPicPr>
        <p:blipFill>
          <a:blip r:embed="rId1"/>
          <a:srcRect l="0" t="0" r="0" b="11609"/>
          <a:stretch/>
        </p:blipFill>
        <p:spPr>
          <a:xfrm>
            <a:off x="250920" y="493560"/>
            <a:ext cx="2808360" cy="1793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屏幕2"/>
          <p:cNvPicPr/>
          <p:nvPr/>
        </p:nvPicPr>
        <p:blipFill>
          <a:blip r:embed="rId2"/>
          <a:stretch/>
        </p:blipFill>
        <p:spPr>
          <a:xfrm>
            <a:off x="250920" y="2509920"/>
            <a:ext cx="2808360" cy="192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248000" y="148428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as a </a:t>
            </a: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big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74920" y="27255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vi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867120" y="4741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creen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370840" y="344664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as a </a:t>
            </a: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bigger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497560" y="5451480"/>
            <a:ext cx="22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as </a:t>
            </a:r>
            <a:r>
              <a:rPr b="0" lang="en-US" sz="1800" spc="-1" strike="noStrike">
                <a:solidFill>
                  <a:srgbClr val="cc0099"/>
                </a:solidFill>
                <a:latin typeface="Times New Roman"/>
              </a:rPr>
              <a:t>the biggest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048560" y="83664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d star Ci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12125bdcec881a1c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670280"/>
            <a:ext cx="2808360" cy="163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4173480" y="1413000"/>
            <a:ext cx="22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mfor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16360" y="2862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ovi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43400" y="49291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creen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4426920" y="3633840"/>
            <a:ext cx="27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ore comfor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4449960" y="568332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he most comfor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918600" y="71424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d Star Ci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4343" descr="20120106094706148"/>
          <p:cNvPicPr/>
          <p:nvPr/>
        </p:nvPicPr>
        <p:blipFill>
          <a:blip r:embed="rId1"/>
          <a:srcRect l="0" t="0" r="7113" b="6068"/>
          <a:stretch/>
        </p:blipFill>
        <p:spPr>
          <a:xfrm>
            <a:off x="31680" y="4824360"/>
            <a:ext cx="281160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4344" descr="1527856"/>
          <p:cNvPicPr/>
          <p:nvPr/>
        </p:nvPicPr>
        <p:blipFill>
          <a:blip r:embed="rId2"/>
          <a:stretch/>
        </p:blipFill>
        <p:spPr>
          <a:xfrm>
            <a:off x="31680" y="250992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4345" descr="-18477733287735"/>
          <p:cNvPicPr/>
          <p:nvPr/>
        </p:nvPicPr>
        <p:blipFill>
          <a:blip r:embed="rId3"/>
          <a:srcRect l="0" t="0" r="0" b="6266"/>
          <a:stretch/>
        </p:blipFill>
        <p:spPr>
          <a:xfrm>
            <a:off x="30240" y="333360"/>
            <a:ext cx="2813040" cy="200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6"/>
          <p:cNvSpPr/>
          <p:nvPr/>
        </p:nvSpPr>
        <p:spPr>
          <a:xfrm>
            <a:off x="4967280" y="2938320"/>
            <a:ext cx="320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771640" y="115920"/>
            <a:ext cx="3600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Choose</a:t>
            </a:r>
            <a:endParaRPr b="1" lang="en-US" sz="4000" spc="1" strike="noStrike">
              <a:ln w="9360">
                <a:solidFill>
                  <a:srgbClr val="ff0066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11280" y="2897280"/>
            <a:ext cx="309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24000" y="3618000"/>
            <a:ext cx="367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fortable s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4000" y="5119560"/>
            <a:ext cx="309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324000" y="5838840"/>
            <a:ext cx="345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mo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24000" y="4368960"/>
            <a:ext cx="324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g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930920" y="3727440"/>
            <a:ext cx="324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 to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4933800" y="5877000"/>
            <a:ext cx="399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y tickets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1560600"/>
            <a:ext cx="9144000" cy="4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ow do you choose which movie theater to go to? Write the things in the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4933800" y="5126040"/>
            <a:ext cx="2519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4932360" y="4406760"/>
            <a:ext cx="208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"/>
          <p:cNvSpPr/>
          <p:nvPr/>
        </p:nvSpPr>
        <p:spPr>
          <a:xfrm>
            <a:off x="1297080" y="422280"/>
            <a:ext cx="8985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3114720" y="998640"/>
            <a:ext cx="259236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Listening</a:t>
            </a:r>
            <a:endParaRPr b="1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008080" y="1484280"/>
            <a:ext cx="55882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isten and match the statements with the movie theater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"/>
          <p:cNvSpPr/>
          <p:nvPr/>
        </p:nvSpPr>
        <p:spPr>
          <a:xfrm>
            <a:off x="1251000" y="1538280"/>
            <a:ext cx="674640" cy="743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43000" y="2463840"/>
          <a:ext cx="6858000" cy="3395520"/>
        </p:xfrm>
        <a:graphic>
          <a:graphicData uri="http://schemas.openxmlformats.org/drawingml/2006/table">
            <a:tbl>
              <a:tblPr/>
              <a:tblGrid>
                <a:gridCol w="4454640"/>
                <a:gridCol w="2403360"/>
              </a:tblGrid>
              <a:tr h="48024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Movie theater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4345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has the biggest scre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4345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the most popular near he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48024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’s the closest to 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Town Cinem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4345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has the shortest waiting ti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4345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has the best sound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  <a:tr h="80028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 has the most comfortable sea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dde1"/>
                    </a:solidFill>
                  </a:tcPr>
                </a:tc>
              </a:tr>
            </a:tbl>
          </a:graphicData>
        </a:graphic>
      </p:graphicFrame>
      <p:sp>
        <p:nvSpPr>
          <p:cNvPr id="124" name="Text Box 6"/>
          <p:cNvSpPr/>
          <p:nvPr/>
        </p:nvSpPr>
        <p:spPr>
          <a:xfrm>
            <a:off x="5626080" y="2919240"/>
            <a:ext cx="23493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Times New Roman"/>
              </a:rPr>
              <a:t>Movie World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11360"/>
            <a:ext cx="19177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Times New Roman"/>
              </a:rPr>
              <a:t>Screen City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5651640" y="4437000"/>
            <a:ext cx="23493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Times New Roman"/>
              </a:rPr>
              <a:t>Town Cinema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5651640" y="4869000"/>
            <a:ext cx="23493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Times New Roman"/>
              </a:rPr>
              <a:t>Screen City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651640" y="5349960"/>
            <a:ext cx="23493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00"/>
                </a:solidFill>
                <a:latin typeface="Times New Roman"/>
              </a:rPr>
              <a:t>Movie World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ection A 1b.mp3" descr="Section A 1b"/>
          <p:cNvPicPr/>
          <p:nvPr/>
        </p:nvPicPr>
        <p:blipFill>
          <a:blip r:embed="rId1"/>
          <a:stretch/>
        </p:blipFill>
        <p:spPr>
          <a:xfrm>
            <a:off x="1494000" y="998640"/>
            <a:ext cx="595080" cy="595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9007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7409" descr="2531170_132522609292_2"/>
          <p:cNvPicPr/>
          <p:nvPr/>
        </p:nvPicPr>
        <p:blipFill>
          <a:blip r:embed="rId1"/>
          <a:srcRect l="0" t="0" r="32831" b="4371"/>
          <a:stretch/>
        </p:blipFill>
        <p:spPr>
          <a:xfrm>
            <a:off x="4518000" y="3322800"/>
            <a:ext cx="2379600" cy="248256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标注 10"/>
          <p:cNvSpPr/>
          <p:nvPr/>
        </p:nvSpPr>
        <p:spPr>
          <a:xfrm>
            <a:off x="1535040" y="2997360"/>
            <a:ext cx="2712960" cy="973080"/>
          </a:xfrm>
          <a:prstGeom prst="wedgeRoundRectCallout">
            <a:avLst>
              <a:gd name="adj1" fmla="val 58203"/>
              <a:gd name="adj2" fmla="val -11689"/>
              <a:gd name="adj3" fmla="val 16667"/>
            </a:avLst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hat’s the best movie theater?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标注 11"/>
          <p:cNvSpPr/>
          <p:nvPr/>
        </p:nvSpPr>
        <p:spPr>
          <a:xfrm>
            <a:off x="4707000" y="2293920"/>
            <a:ext cx="2889360" cy="1027080"/>
          </a:xfrm>
          <a:prstGeom prst="wedgeRoundRectCallout">
            <a:avLst>
              <a:gd name="adj1" fmla="val 14606"/>
              <a:gd name="adj2" fmla="val 86425"/>
              <a:gd name="adj3" fmla="val 16667"/>
            </a:avLst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0066"/>
                </a:solidFill>
                <a:latin typeface="Times New Roman"/>
              </a:rPr>
              <a:t>Sun Cinema. It’s the cheapest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"/>
          <p:cNvSpPr/>
          <p:nvPr/>
        </p:nvSpPr>
        <p:spPr>
          <a:xfrm>
            <a:off x="1278000" y="1214280"/>
            <a:ext cx="565200" cy="57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标注 6"/>
          <p:cNvSpPr/>
          <p:nvPr/>
        </p:nvSpPr>
        <p:spPr>
          <a:xfrm>
            <a:off x="1332000" y="4294080"/>
            <a:ext cx="3510000" cy="1403280"/>
          </a:xfrm>
          <a:prstGeom prst="wedgeRoundRectCallout">
            <a:avLst>
              <a:gd name="adj1" fmla="val 39046"/>
              <a:gd name="adj2" fmla="val -62296"/>
              <a:gd name="adj3" fmla="val 16667"/>
            </a:avLst>
          </a:pr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But I think Moon Theater has the most comfortable seats.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7414"/>
          <p:cNvSpPr/>
          <p:nvPr/>
        </p:nvSpPr>
        <p:spPr>
          <a:xfrm>
            <a:off x="1873080" y="1052640"/>
            <a:ext cx="5669280" cy="1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ff"/>
                </a:solidFill>
                <a:latin typeface="Arial"/>
              </a:rPr>
              <a:t>Practice the conversation. Then talk about the movie theaters you know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1522440" y="1214280"/>
            <a:ext cx="2077920" cy="80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Listening</a:t>
            </a:r>
            <a:endParaRPr b="1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17800" y="944640"/>
            <a:ext cx="4157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Listen to a reporter interviewing a boy. Circle the boy’s answer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"/>
          <p:cNvSpPr/>
          <p:nvPr/>
        </p:nvSpPr>
        <p:spPr>
          <a:xfrm>
            <a:off x="2465280" y="1606680"/>
            <a:ext cx="67464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折角形 7"/>
          <p:cNvSpPr/>
          <p:nvPr/>
        </p:nvSpPr>
        <p:spPr>
          <a:xfrm>
            <a:off x="1249200" y="2455920"/>
            <a:ext cx="6670800" cy="3544920"/>
          </a:xfrm>
          <a:prstGeom prst="foldedCorner">
            <a:avLst>
              <a:gd name="adj" fmla="val 8712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00ff"/>
                </a:solidFill>
                <a:latin typeface="Arial"/>
              </a:rPr>
              <a:t>Green City Survey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hich is the best clothes store?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a. Miller’s                b. Blue Moon                    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c. Dream Clothe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2. Which is the best radio station?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a. 970 AM        b. 97.9 FM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c. 107.9 FM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1332000" y="5359320"/>
            <a:ext cx="5382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1360440" y="3468600"/>
            <a:ext cx="6192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8439" descr="CIMG5504"/>
          <p:cNvPicPr/>
          <p:nvPr/>
        </p:nvPicPr>
        <p:blipFill>
          <a:blip r:embed="rId1"/>
          <a:stretch/>
        </p:blipFill>
        <p:spPr>
          <a:xfrm>
            <a:off x="6354720" y="4653000"/>
            <a:ext cx="1592280" cy="1260360"/>
          </a:xfrm>
          <a:prstGeom prst="rect">
            <a:avLst/>
          </a:prstGeom>
          <a:ln w="0">
            <a:noFill/>
          </a:ln>
        </p:spPr>
      </p:pic>
      <p:pic>
        <p:nvPicPr>
          <p:cNvPr id="143" name="Section A 2a.mp3" descr="Section A 2a"/>
          <p:cNvPicPr/>
          <p:nvPr/>
        </p:nvPicPr>
        <p:blipFill>
          <a:blip r:embed="rId2"/>
          <a:stretch/>
        </p:blipFill>
        <p:spPr>
          <a:xfrm>
            <a:off x="1655640" y="1863720"/>
            <a:ext cx="540000" cy="53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8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5" dur="7570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2268360" y="69228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Exercises</a:t>
            </a:r>
            <a:endParaRPr b="1" lang="en-US" sz="4000" spc="1" strike="noStrike">
              <a:ln w="9360">
                <a:solidFill>
                  <a:srgbClr val="cc0000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1957320"/>
            <a:ext cx="590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写出下列单词的适当形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284940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hich do you think is the ______ (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store in t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Who sings ______ (good) in your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Jane writes _____________ (carefully) 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r cla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945400" y="2851200"/>
            <a:ext cx="688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70200" y="4189320"/>
            <a:ext cx="129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843280" y="4836960"/>
            <a:ext cx="3097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st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29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91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33">
                                          <p:stCondLst>
                                            <p:cond delay="333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6">
                                          <p:stCondLst>
                                            <p:cond delay="663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82">
                                          <p:stCondLst>
                                            <p:cond delay="83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3" dur="14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4" dur="82" fill="hold">
                                          <p:stCondLst>
                                            <p:cond delay="33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14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6" dur="82" fill="hold">
                                          <p:stCondLst>
                                            <p:cond delay="67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14" fill="hold">
                                          <p:stCondLst>
                                            <p:cond delay="82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8" dur="82" fill="hold">
                                          <p:stCondLst>
                                            <p:cond delay="83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14" fill="hold">
                                          <p:stCondLst>
                                            <p:cond delay="90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0" dur="82" fill="hold">
                                          <p:stCondLst>
                                            <p:cond delay="91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写出下列词汇的最高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hig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           2.slow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comfort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4.fat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eas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            6.funny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ear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            8.beautiful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n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             10.interesting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2411280" y="1197000"/>
            <a:ext cx="388944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5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0000"/>
                  </a:solidFill>
                  <a:round/>
                </a:ln>
                <a:solidFill>
                  <a:srgbClr val="ff0000"/>
                </a:solidFill>
                <a:latin typeface="Arial"/>
              </a:rPr>
              <a:t>Homework</a:t>
            </a:r>
            <a:endParaRPr b="1" lang="en-US" sz="4000" spc="1" strike="noStrike">
              <a:ln w="9360">
                <a:solidFill>
                  <a:srgbClr val="cc0000"/>
                </a:solidFill>
                <a:round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24000" y="2565360"/>
            <a:ext cx="8604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写六个句子来说一下你们班的“最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n my class, Lin Tao is the tall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my class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7"/>
          <p:cNvSpPr txBox="1"/>
          <p:nvPr/>
        </p:nvSpPr>
        <p:spPr>
          <a:xfrm>
            <a:off x="539640" y="2205000"/>
            <a:ext cx="828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Thank you!</a:t>
            </a:r>
            <a:endParaRPr b="1" lang="en-US" sz="6600" spc="1" strike="noStrike">
              <a:ln w="9360">
                <a:solidFill>
                  <a:srgbClr val="ff0066"/>
                </a:solidFill>
                <a:round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3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dArt 4" descr=""/>
          <p:cNvPicPr/>
          <p:nvPr/>
        </p:nvPicPr>
        <p:blipFill>
          <a:blip r:embed="rId1"/>
          <a:stretch/>
        </p:blipFill>
        <p:spPr>
          <a:xfrm>
            <a:off x="34920" y="2774880"/>
            <a:ext cx="8964720" cy="371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theater06"/>
          <p:cNvPicPr/>
          <p:nvPr/>
        </p:nvPicPr>
        <p:blipFill>
          <a:blip r:embed="rId1"/>
          <a:stretch/>
        </p:blipFill>
        <p:spPr>
          <a:xfrm>
            <a:off x="322200" y="1492200"/>
            <a:ext cx="2927520" cy="198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big screen"/>
          <p:cNvPicPr/>
          <p:nvPr/>
        </p:nvPicPr>
        <p:blipFill>
          <a:blip r:embed="rId2"/>
          <a:srcRect l="0" t="0" r="4409" b="0"/>
          <a:stretch/>
        </p:blipFill>
        <p:spPr>
          <a:xfrm>
            <a:off x="5832360" y="1492200"/>
            <a:ext cx="3132360" cy="194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电影票"/>
          <p:cNvPicPr/>
          <p:nvPr/>
        </p:nvPicPr>
        <p:blipFill>
          <a:blip r:embed="rId3"/>
          <a:stretch/>
        </p:blipFill>
        <p:spPr>
          <a:xfrm>
            <a:off x="250920" y="4227480"/>
            <a:ext cx="2736720" cy="1822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t3.baidu.com/it/u=3351242213,3247550506&amp;fm=11&amp;gp=0.jpg"/>
          <p:cNvPicPr/>
          <p:nvPr/>
        </p:nvPicPr>
        <p:blipFill>
          <a:blip r:embed="rId4"/>
          <a:srcRect l="0" t="0" r="0" b="8102"/>
          <a:stretch/>
        </p:blipFill>
        <p:spPr>
          <a:xfrm>
            <a:off x="6227640" y="4227480"/>
            <a:ext cx="2592360" cy="1805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149" descr="721230_1"/>
          <p:cNvPicPr/>
          <p:nvPr/>
        </p:nvPicPr>
        <p:blipFill>
          <a:blip r:embed="rId5"/>
          <a:stretch/>
        </p:blipFill>
        <p:spPr>
          <a:xfrm>
            <a:off x="3780000" y="1539720"/>
            <a:ext cx="1458720" cy="203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9"/>
          <p:cNvSpPr/>
          <p:nvPr/>
        </p:nvSpPr>
        <p:spPr>
          <a:xfrm>
            <a:off x="971640" y="3508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4211640" y="3514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6804000" y="35863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1042920" y="6027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3"/>
          <p:cNvSpPr/>
          <p:nvPr/>
        </p:nvSpPr>
        <p:spPr>
          <a:xfrm>
            <a:off x="6657840" y="60357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rep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4"/>
          <p:cNvSpPr/>
          <p:nvPr/>
        </p:nvSpPr>
        <p:spPr>
          <a:xfrm>
            <a:off x="4282920" y="6021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2050920" y="378000"/>
            <a:ext cx="47530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ff6600"/>
                </a:solidFill>
                <a:latin typeface="Arial"/>
              </a:rPr>
              <a:t>New Words</a:t>
            </a:r>
            <a:endParaRPr b="1" lang="en-US" sz="4000" spc="-1" strike="noStrike">
              <a:ln w="0">
                <a:noFill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6" name="图片 6157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2720" cy="18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4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4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4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895320"/>
            <a:ext cx="83516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fortable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使人舒服的；舒适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19280" y="1773360"/>
            <a:ext cx="80294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多音节形容词，其比较级及最高级形式在词前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24000" y="3284640"/>
            <a:ext cx="8461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he sofa i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o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fortable than that ch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张沙发比那把椅子更舒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95280" y="836640"/>
            <a:ext cx="8209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ose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在空间、时间上）接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95280" y="1773360"/>
            <a:ext cx="7920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he park is very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my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公园离我家很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95280" y="3357720"/>
            <a:ext cx="4968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拓展：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lose 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v.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关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8360" y="4149720"/>
            <a:ext cx="5616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Pleas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do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请关上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280" y="395280"/>
            <a:ext cx="8964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3. worst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d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badly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的最高级）最差（的）；最坏（的）；最糟（的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647640" y="1916280"/>
            <a:ext cx="5724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既可做形容词也可做副词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50920" y="4788000"/>
            <a:ext cx="8713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da sing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 three girls.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副词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三个女孩中，琳达唱得最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50920" y="2706840"/>
            <a:ext cx="8820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 bike i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wor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n Mike’s. 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形容词</a:t>
            </a:r>
            <a:r>
              <a:rPr b="0" lang="en-US" sz="18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我的自行车比迈克的质量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24000" y="14436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aply  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便宜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refully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细致地；小心地；谨慎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mfortably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舒服地；舒适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89080" y="2997360"/>
            <a:ext cx="86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You can buy skirts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ap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thes store.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这家服装店里你可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很便宜地买到短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755640" y="2349360"/>
            <a:ext cx="7812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构成词： 形容词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+ ly </a:t>
            </a:r>
            <a:r>
              <a:rPr b="0" lang="en-US" sz="1800" spc="-1" strike="noStrike">
                <a:solidFill>
                  <a:srgbClr val="0000ff"/>
                </a:solidFill>
                <a:latin typeface="宋体"/>
              </a:rPr>
              <a:t>→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副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081080" y="5013360"/>
            <a:ext cx="7307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ce chooses clothes most</a:t>
            </a:r>
            <a:r>
              <a:rPr b="0" lang="en-U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refu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艾丽丝选择衣服最细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4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68360" y="606600"/>
            <a:ext cx="460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o far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到目前为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395280" y="1197000"/>
            <a:ext cx="8675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How do you like your new hous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so f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到目前为止，你觉得你的新房子怎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95280" y="3141720"/>
            <a:ext cx="6985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resh  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新鲜的；清新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396720" y="3933720"/>
            <a:ext cx="756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The vegetables are really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fre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’d like to buy 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些蔬菜真新鲜，我想买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771640" y="115920"/>
            <a:ext cx="36007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Lead-in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Picture 2" descr="电影票"/>
          <p:cNvPicPr/>
          <p:nvPr/>
        </p:nvPicPr>
        <p:blipFill>
          <a:blip r:embed="rId1"/>
          <a:stretch/>
        </p:blipFill>
        <p:spPr>
          <a:xfrm>
            <a:off x="322200" y="549360"/>
            <a:ext cx="2376720" cy="158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票"/>
          <p:cNvPicPr/>
          <p:nvPr/>
        </p:nvPicPr>
        <p:blipFill>
          <a:blip r:embed="rId2"/>
          <a:stretch/>
        </p:blipFill>
        <p:spPr>
          <a:xfrm>
            <a:off x="322200" y="2709720"/>
            <a:ext cx="2376720" cy="156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票"/>
          <p:cNvPicPr/>
          <p:nvPr/>
        </p:nvPicPr>
        <p:blipFill>
          <a:blip r:embed="rId3"/>
          <a:srcRect l="0" t="0" r="0" b="18174"/>
          <a:stretch/>
        </p:blipFill>
        <p:spPr>
          <a:xfrm>
            <a:off x="322200" y="4797360"/>
            <a:ext cx="2340000" cy="1440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148040" y="206856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28960" y="422928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128960" y="617220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452840" y="185112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ap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475440" y="29973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ovi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615480" y="508644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Red star Cinem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267160" y="378936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heap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464800" y="587844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cheap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362400" y="1197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Screen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11:12Z</dcterms:created>
  <dc:creator>jhon</dc:creator>
  <dc:description/>
  <dc:language>en-US</dc:language>
  <cp:lastModifiedBy>jhon</cp:lastModifiedBy>
  <dcterms:modified xsi:type="dcterms:W3CDTF">2018-10-15T06:49:0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